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13B-866B-41E2-B101-0412191B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B7F-6F97-4EE4-A71E-FC58049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9C5-FC72-4AF9-A7DC-B3638E8B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380-78E9-481D-A98C-3B074F5F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0DA-5D3A-4231-B83E-ABF2B91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611-CDB8-429A-8BB7-D3FA7DC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713-1472-4094-AE2A-7406DF1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1C6-4647-4039-87C7-F6895CFF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454-FAB6-444E-838C-DC81E0A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E31-DC5F-4686-A3FE-8564B45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C0C-B728-45D3-8C07-4A1EE1E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88D-5B7A-42C7-BD31-F43A755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00B0-B58D-478C-A464-371E31805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239076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216000" y="404640"/>
            <a:ext cx="871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rcRect l="13693" t="13703" r="36223" b="2871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262080"/>
            <a:ext cx="91803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x_f4115ab8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x_2762c58b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9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arhivurokov.ru/kopilka/uploads/user_file_5557526193bf5/img_user_file_5557526193bf5_34.jpg"/>
          <p:cNvPicPr/>
          <p:nvPr/>
        </p:nvPicPr>
        <p:blipFill>
          <a:blip r:embed="rId1"/>
          <a:srcRect l="11237" t="14221" r="8783" b="5427"/>
          <a:stretch/>
        </p:blipFill>
        <p:spPr>
          <a:xfrm>
            <a:off x="22320" y="-14400"/>
            <a:ext cx="9121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age.slidesharecdn.com/4-130518132329-phpapp02/95/4-17-638.jpg?cb=1368883503"/>
          <p:cNvPicPr/>
          <p:nvPr/>
        </p:nvPicPr>
        <p:blipFill>
          <a:blip r:embed="rId1"/>
          <a:srcRect l="32565" t="21169" r="4899" b="14968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Мариночка\Desktop\фото Блокады\фото 2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arhivurokov.ru/kopilka/uploads/user_file_566702495d68e/img_user_file_566702495d68e_0_11.jpg"/>
          <p:cNvPicPr/>
          <p:nvPr/>
        </p:nvPicPr>
        <p:blipFill>
          <a:blip r:embed="rId1"/>
          <a:srcRect l="22637" t="27845" r="20458" b="15313"/>
          <a:stretch/>
        </p:blipFill>
        <p:spPr>
          <a:xfrm>
            <a:off x="-648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WW2End_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5090048111111111111111"/>
          <p:cNvPicPr/>
          <p:nvPr/>
        </p:nvPicPr>
        <p:blipFill>
          <a:blip r:embed="rId2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tle2"/>
          <p:cNvPicPr/>
          <p:nvPr/>
        </p:nvPicPr>
        <p:blipFill>
          <a:blip r:embed="rId3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picture"/>
          <p:cNvPicPr/>
          <p:nvPr/>
        </p:nvPicPr>
        <p:blipFill>
          <a:blip r:embed="rId4"/>
          <a:srcRect l="4360" t="3041" r="4978" b="5019"/>
          <a:stretch/>
        </p:blipFill>
        <p:spPr>
          <a:xfrm>
            <a:off x="2411280" y="0"/>
            <a:ext cx="6732720" cy="623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rcRect l="0" t="1602" r="2879" b="1401"/>
          <a:stretch/>
        </p:blipFill>
        <p:spPr>
          <a:xfrm>
            <a:off x="1851120" y="77760"/>
            <a:ext cx="5526000" cy="67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Мариночка\Desktop\фото Блокады\0046-054-U-planety-nashej-serdtse-Bjotsja-gulko-kak-nabat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443640" y="131760"/>
            <a:ext cx="19461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330200" y="47628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невник  Тани Савичево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вековечен в граните и входит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мемориальный комплекс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Зелёный пояс славы»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Мариночка\Desktop\фото Блокады\1295574823_1245433936_object_78.1114271356.24847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24000" y="331920"/>
            <a:ext cx="84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0"/>
            <a:ext cx="89251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Мариночка\Desktop\54296683_38786301_39736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6456" t="471" r="11779" b="-465"/>
          <a:stretch/>
        </p:blipFill>
        <p:spPr>
          <a:xfrm>
            <a:off x="-252360" y="0"/>
            <a:ext cx="93852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9" descr="https://encrypted-tbn0.gstatic.com/images?q=tbn:ANd9GcT_XiwcwsPFkDizp1C3m9RiUWJ2XGGbO_47MknzOEbb5g_aSq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алют в Ленинграде 27 января 1944 года.mp4" descr=""/>
          <p:cNvPicPr/>
          <p:nvPr/>
        </p:nvPicPr>
        <p:blipFill>
          <a:blip r:embed="rId1"/>
          <a:stretch/>
        </p:blipFill>
        <p:spPr>
          <a:xfrm>
            <a:off x="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2" descr="C:\Users\Мариночка\Desktop\фото Блокады\Piskarevskoe_memorialnoe_kladbicshe_1.jpeg"/>
          <p:cNvPicPr/>
          <p:nvPr/>
        </p:nvPicPr>
        <p:blipFill>
          <a:blip r:embed="rId1"/>
          <a:srcRect l="13734" t="3620" r="4430" b="50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Picture 3" descr="C:\Users\Мариночка\Desktop\фото Блокады\63766027_3822_msgbig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Picture 2" descr="C:\Users\Мариночка\Desktop\фото Блокады\480eab0e4cd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METRONOM_-_27.01_-_den_snyatiya_blokady_Leningrada_(iPleer.fm)(1).mp3" descr=""/>
          <p:cNvPicPr/>
          <p:nvPr/>
        </p:nvPicPr>
        <p:blipFill>
          <a:blip r:embed="rId2"/>
          <a:stretch/>
        </p:blipFill>
        <p:spPr>
          <a:xfrm>
            <a:off x="81565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79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203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METRONOM_-_27.01_-_den_snyatiya_blokady_Leningrada_(iPleer.fm)(1).mp3" descr=""/>
          <p:cNvPicPr/>
          <p:nvPr/>
        </p:nvPicPr>
        <p:blipFill>
          <a:blip r:embed="rId6"/>
          <a:stretch/>
        </p:blipFill>
        <p:spPr>
          <a:xfrm>
            <a:off x="8370720" y="6167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rcRect l="31241" t="14971" r="29475" b="10175"/>
          <a:stretch/>
        </p:blipFill>
        <p:spPr>
          <a:xfrm>
            <a:off x="1676520" y="109440"/>
            <a:ext cx="566568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17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Блокад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7877" t="9262" r="4879" b="9508"/>
          <a:stretch/>
        </p:blipFill>
        <p:spPr>
          <a:xfrm>
            <a:off x="0" y="765000"/>
            <a:ext cx="9093240" cy="609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rcRect l="3220" t="43035" r="1609" b="38945"/>
          <a:stretch/>
        </p:blipFill>
        <p:spPr>
          <a:xfrm>
            <a:off x="0" y="36360"/>
            <a:ext cx="914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lokada"/>
          <p:cNvPicPr/>
          <p:nvPr/>
        </p:nvPicPr>
        <p:blipFill>
          <a:blip r:embed="rId1"/>
          <a:srcRect l="0" t="8901" r="12768" b="8599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очка\Desktop\фото Блокады\035bdb3394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4. Дню снятия блокады Ленинграда-Посвящается!.mp4" descr=""/>
          <p:cNvPicPr/>
          <p:nvPr/>
        </p:nvPicPr>
        <p:blipFill>
          <a:blip r:embed="rId1"/>
          <a:stretch/>
        </p:blipFill>
        <p:spPr>
          <a:xfrm>
            <a:off x="23760" y="11160"/>
            <a:ext cx="9129600" cy="68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-2052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402444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479840" y="-1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2" descr="C:\Users\Мариночка\Desktop\фото Блокады\44.jpg"/>
          <p:cNvPicPr/>
          <p:nvPr/>
        </p:nvPicPr>
        <p:blipFill>
          <a:blip r:embed="rId6"/>
          <a:stretch/>
        </p:blipFill>
        <p:spPr>
          <a:xfrm>
            <a:off x="0" y="9360"/>
            <a:ext cx="93376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03280" y="189000"/>
            <a:ext cx="46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332000" y="0"/>
            <a:ext cx="2663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2" descr="https://ds04.infourok.ru/uploads/ex/05a9/0001c6e0-4955372b/2/img26.jpg"/>
          <p:cNvPicPr/>
          <p:nvPr/>
        </p:nvPicPr>
        <p:blipFill>
          <a:blip r:embed="rId1"/>
          <a:srcRect l="0" t="0" r="5878" b="7575"/>
          <a:stretch/>
        </p:blipFill>
        <p:spPr>
          <a:xfrm>
            <a:off x="-36360" y="-3024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332000" y="260280"/>
            <a:ext cx="2087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332000" y="66240"/>
            <a:ext cx="29527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00 дней и ноче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4275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792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48d_90f6e755_XL"/>
          <p:cNvPicPr/>
          <p:nvPr/>
        </p:nvPicPr>
        <p:blipFill>
          <a:blip r:embed="rId3"/>
          <a:stretch/>
        </p:blipFill>
        <p:spPr>
          <a:xfrm>
            <a:off x="3924360" y="3332160"/>
            <a:ext cx="5219640" cy="35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3a1e95300d71t"/>
          <p:cNvPicPr/>
          <p:nvPr/>
        </p:nvPicPr>
        <p:blipFill>
          <a:blip r:embed="rId4"/>
          <a:stretch/>
        </p:blipFill>
        <p:spPr>
          <a:xfrm>
            <a:off x="0" y="3314880"/>
            <a:ext cx="4932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lokada"/>
          <p:cNvPicPr/>
          <p:nvPr/>
        </p:nvPicPr>
        <p:blipFill>
          <a:blip r:embed="rId1"/>
          <a:stretch/>
        </p:blipFill>
        <p:spPr>
          <a:xfrm>
            <a:off x="4680" y="-77760"/>
            <a:ext cx="9139320" cy="69357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31:15Z</dcterms:created>
  <dc:creator>Ольга</dc:creator>
  <dc:description/>
  <dc:language>en-US</dc:language>
  <cp:lastModifiedBy>Организатор</cp:lastModifiedBy>
  <dcterms:modified xsi:type="dcterms:W3CDTF">2020-03-20T06:48:10Z</dcterms:modified>
  <cp:revision>159</cp:revision>
  <dc:subject/>
  <dc:title>Слайд 1</dc:title>
</cp:coreProperties>
</file>